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C677-55E9-4B32-BDDB-A1462AD7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55C2-6945-40CE-B756-447262AB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859D-8314-4C7B-9C5A-5A10C6D3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6C5-7029-4A82-8D22-B36BD9D5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7048-6244-4340-85C2-E1A47FC9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3DFE-BD1D-4CFC-9891-D0E10E82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47E3-3582-4227-9BD6-98361F27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9FB-EA22-4A7A-8A0D-3C36B10D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DCC9-6611-4371-9485-2E861AAE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A28E-8C57-4126-8F6D-E9511938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C76A-186D-4DC8-B679-1D05F129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FF99-3108-4052-A593-4CC372C7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2F7D-C193-4BE3-B92E-6FE40EB4CE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4280" y="1447920"/>
            <a:ext cx="7590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arkinson’s Diseas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  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utch Elderl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opulation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391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543800" cy="3124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5438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162920" cy="1409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7162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4572000" cy="1171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4572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91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238880" cy="441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90720" y="4876920"/>
            <a:ext cx="7238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772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86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7T15:09:00Z</dcterms:modified>
  <cp:revision>184</cp:revision>
  <dc:subject/>
  <dc:title>Slide 1</dc:title>
</cp:coreProperties>
</file>